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D1D3-3697-4C67-893C-473411AF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solver will only get you so far. And as we all know from the MBA teams problem, not everything is solvable with a model.  This is a case where solver can only take you so far. This serves as a reminder that every business decision does not have a definite answer, and we can be the most technologically sophisticated quant jocks in the world, but there will still be times when you have to use a human brain to do something that a computer can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n this specific instance, in something as important as a wedding, you would have to go over the results and make sure that every person sitting at a table is appropriate for that table.  You wouldn't ever just trust a program (or someone else for that matter) to do it for you perf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ial and business relevance/other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i will be getting married in June and she needs a model that will help her to optimize the seating arrangements for the reception. There will be 150 guests in attendance. The reception hall offers the option of tables that seat 8 or 10 people. Randi is concerned about the mix of personalities at each table and therefore wants to maximize the enjoyment of all in attendance by ensuring a favorable mix of occupations, relationship to the happy couple, proclivity towards drunkenness, political affiliation and most importantly, fu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ased our model on the following gues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vs 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, crazy, Sterni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 doctor, lawyer,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, social drinker, cheap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f the party, tolerable, l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just a snapshot of our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output of the frequencies of each utility at each table based on the output from evolutionary so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629-DECC-4DAA-B10F-C6B7AFB7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8F3-22F2-4907-B17A-64BF4A49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EB2-0862-4F4C-A836-4AA46FC3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D36-29C7-4C65-9507-A6ED0670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754E-DA75-468B-8B2F-2A1F2BF5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786B-34BA-484C-90FE-27CE14E8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46D3-5573-4D62-8B4B-79461071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2577-C5AB-42CA-B103-53C61D3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27D4-AD1E-4104-BE87-614C55FE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CE44-87E2-47FA-AB05-94BF176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BA3F-0875-4C4E-91AE-C8A70D5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1D5-D48F-451C-BB85-CA87A924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1BC8-DD03-438C-B748-249E5B9D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8C7C-5E69-45C6-A127-BE78F4D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601A-3C44-42F9-BD97-461AD18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03D3-1B4F-427E-A051-93CC96A4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7526-B279-4800-A673-A4D7961B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425-4761-40C2-91F6-E7858A54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CFD-845D-4B2E-813B-6A4C4297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4F6-FFB0-4215-A40F-791B569E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13D-D775-47AD-B3AD-458EB1F7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2D4-FAEB-41EB-8A8C-16DCAAE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CE0-64ED-4E41-9303-0195B037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C52-E734-4BF4-8ACD-75089D3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E6E0-531C-46C6-B0B3-918AD68B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28C0-01BE-4B73-80E3-381F8C22A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Holy Matrimony: Maximizing Marriag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Chitra Agrawal, Jennifer Clarke, Sarah Kalter, Randi Kirtman &amp; Kimberly Schoenhal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olutionary solver will only get you so far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odel’s complexity led to constraint limitation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Human touch still needed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Why Should You Care?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hareholder Meeting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onferenc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ffice Holiday Parti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Divorce rate is high, you may need to plan another wedding some day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Q&amp;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Happily Ever After…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9291" r="0" b="0"/>
          <a:stretch/>
        </p:blipFill>
        <p:spPr>
          <a:xfrm>
            <a:off x="1676520" y="2133720"/>
            <a:ext cx="59436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Problem Description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olution Formulation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ohabitation Constraint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hallenges Bested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Why Should You Care/Managerial Relevanc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Matrimonial Problem Definition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June wedding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150 guest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 utility model to maximize overall happiness of guests by optimizing mix of personalitie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BECAUSE HAPPY GUESTS PAY MORE!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Utility Function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olitical leaning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elationship to couple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rofession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ropensity towards drunkennes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un factor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Solution Formulation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reated a binary matrix describing each guest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Input utility table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d SUMIF formulas to capture frequency of each utility function per tabl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d sequence of IF formulas to calculate utility of each table based on instances of occurrenc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UM utility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92962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9952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Evolutionary Solver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ased on the constraints: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ach table must seat “whole” people (integer)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ere will be between 1 and 19 tabl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ssume non-negativity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U Stern School of Business</cp:lastModifiedBy>
  <dcterms:modified xsi:type="dcterms:W3CDTF">2007-04-22T16:02:31Z</dcterms:modified>
  <cp:revision>16</cp:revision>
  <dc:subject/>
  <dc:title>Holy Matrimony: Maximizing Marriage</dc:title>
</cp:coreProperties>
</file>